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A1FB-3A6A-41E3-B44B-7BE60605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FC52-F3CC-4996-8D26-EF9F56FE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7F30-75FC-46E7-AAF9-3A091169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1799-AA43-47A5-B093-131577D1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511-11FC-400C-A384-F72B2337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93A-32A4-4942-87C2-7416CED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DBD3-0239-4BAA-BED0-2410DD3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598-A252-4368-990B-1C1CAA9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CB0-E1F0-45E6-866A-FD367F1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6D1-3D69-4490-9817-6F39456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F80-B328-4670-B2DE-7240CBD5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8E98-1406-4CFF-9B84-C3D99B7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4BB-84C7-428C-9494-28D6A0C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CBC0-C234-42C3-BD0B-C3041C3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8058-397B-4B0F-ADAD-E0AE65A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6CF-A4B2-4377-875B-DE4C31EA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39E-664A-4D3E-BF27-16114BA2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FE1D-E4D8-4C50-B5B3-5198354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96B3-7AEC-4D2B-8178-AFC4DB6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66EC-4063-4EA7-A1BA-ECE92BB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E747-436B-4146-AE7C-F62F662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61CF-6AA7-475C-8812-1A388A2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4D51-42DC-4D5F-A3EF-25A61CF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D6C0-B283-4077-B273-C4DE23A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0084-5E32-432D-838F-FE0D16F7F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9D1-3D38-45CB-88DF-9048A3359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oles of the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9720" y="2085840"/>
          <a:ext cx="783432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85840"/>
                    <a:ext cx="7834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0683-202B-46CC-AA46-93BF437B1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:  Exec Comm. vs. cBI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4840" y="1444680"/>
          <a:ext cx="5921280" cy="42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4680"/>
                    <a:ext cx="59212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F9EA-5D9A-413A-A150-9F96BDE4C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5:36:56Z</dcterms:created>
  <dc:creator>klinnihan</dc:creator>
  <dc:description/>
  <dc:language>en-US</dc:language>
  <cp:lastModifiedBy>Sima Misra</cp:lastModifiedBy>
  <cp:lastPrinted>2005-06-01T19:24:06Z</cp:lastPrinted>
  <dcterms:modified xsi:type="dcterms:W3CDTF">2005-09-29T19:34:11Z</dcterms:modified>
  <cp:revision>49</cp:revision>
  <dc:subject/>
  <dc:title>Strategic Se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4845545</vt:r8>
  </property>
  <property fmtid="{D5CDD505-2E9C-101B-9397-08002B2CF9AE}" pid="3" name="_AuthorEmail">
    <vt:lpwstr>uman9@comcast.net</vt:lpwstr>
  </property>
  <property fmtid="{D5CDD505-2E9C-101B-9397-08002B2CF9AE}" pid="4" name="_AuthorEmailDisplayName">
    <vt:lpwstr>Ulrich Nettesheim</vt:lpwstr>
  </property>
  <property fmtid="{D5CDD505-2E9C-101B-9397-08002B2CF9AE}" pid="5" name="_EmailSubject">
    <vt:lpwstr>Head Search Mtg. 5/31</vt:lpwstr>
  </property>
</Properties>
</file>